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6072-435C-4E07-8A15-58A8C6D05477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DA26-F5B9-4D94-8D0A-CB84F0A74C2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CDC8-2374-41B5-892F-117B822A92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0BB6-8D78-4A59-B189-0794AE364A9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E12D-2D4E-44DD-B043-7308F386AD7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6A48-6413-4A0E-8BE8-05D85CF5091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E2F6-1A28-42BD-AB5C-6DD4B56841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79F2-1F82-43C7-BC15-26EF4E2D46D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7C60-44E4-4230-9A56-DCAB580CF5E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A395-05DA-4A7F-9496-415FD8F9928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7D3C-6322-43DE-9E0E-E7BF07873B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5E1C-461A-4A39-988C-30CA6BE906B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E2BE-3177-4BD5-9366-ED39312ADE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1B17-B587-4047-B992-CFD79C141F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5D69-20B9-478B-ABE8-C75536E3DD3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B756-5E34-4922-A62D-04B567CA0E5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A96F-A3B2-4013-83DD-0BE1FC365B3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1440-004A-47B0-BE3F-30B39BE88D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2010-2F12-404F-80D3-6803FB4FF42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E830-9006-402B-9A67-AAD2FE29A75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9B91-AFFF-4849-B65B-B1F8EB516F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A22C-450A-4212-9C2B-C10AD04197E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4C6A-4A04-4161-A9B1-8FE34407DFA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007E-A521-44B8-9604-8570C017C7B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C67D-9959-44D6-A7A8-386829426AF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F3FD-1F4A-474D-BAC5-AECF5627D00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0D87-A800-4BB0-B3D6-C24BCA1B896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0500-0938-410E-8769-C50950930B7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0402-6E99-4E6F-ABA7-787AFA4D3A5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7614-5D41-4B48-A0BB-8901FED389A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1F19-5E32-4599-AD64-FE84238FD85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98A8-BA81-4460-9270-77E5CDC61EA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94E9-D4E8-4E7A-BF22-DA7713CFC1A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92A6-F29F-4B4F-84E0-8A3C9648EA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5A23-42A2-4CE2-A83A-D65389F7B9C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3588-0BDF-48CF-801D-33930B12513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6B6D-51E0-4908-8CE7-5548B7F167A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DFDE-2651-48FB-9194-BFB18A8DE37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0AE6-777A-4C5D-8F3D-FBBCF28895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6F05-1B7B-425A-BBDB-9233ED94278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5C7F-065D-448C-BD12-200931B908A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1E4F-0A3D-4FB2-91FD-FA1E19749A3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824A-BA43-42B5-9339-4107371A61B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9552-29C7-4BAF-AFFF-96E92E67367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8854-1B1E-4427-BE2A-92BFD5350AF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19A3-0A58-41B0-A216-2F540FD290E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010C-E7D4-4CD1-8E25-51FE97D2718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1B02-FC4C-4B4B-B3E7-0BF58D1221D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40CD-56B2-424D-8207-61D7BAEE9A0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47D1-BE69-4120-9558-FDE3D1ECF5B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CBCE-92C8-44E7-8D21-005F22FC294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2396-0BEE-463D-A12F-A81A322AA99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5D54-4E6D-491F-ADD0-966BD525DED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6688-CA12-4F45-8CB6-E04A4B2C7C3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E10-0147-4D30-BDD9-E37B84BA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AF5-413B-4915-AF4E-7929E4B0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267-E858-4A5F-A50A-8402FD3B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3B1-4C06-4BF6-B0D9-7C857DFC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882-99BA-4FF4-B2D1-7DCAC75F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927-1214-480D-9F83-A518FD31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A3F-87C2-46F2-A0AC-14C272CF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B77-3AE4-476E-AFC8-30AFFA56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BCE-85BF-4AA6-8158-FD070F2F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298-831F-4498-BEFD-5C7FC170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B8A-B11F-48F8-973D-D923D49A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7BE-883E-48B8-BF25-D110C82C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2E4B-DC6B-45EA-A0F3-4796F90C66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1st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6-05-03T14:53:39Z</dcterms:modified>
  <cp:revision>107</cp:revision>
  <dc:subject/>
  <dc:title>Aims and Objectives</dc:title>
</cp:coreProperties>
</file>